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400-8530-4E0D-B34B-B91A97A4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D36-531E-4924-B626-10C9097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A28-E2D4-4BC0-BB98-6E05E828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BCB-6D22-4416-96BF-14FAB849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2994-3E75-4066-9EE2-504E0DCE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BC4-6120-47D2-BD51-022C54F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5C80-841F-4BBC-BF9D-3B41DA89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F00-4F51-4FFD-9EC9-B52B507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B887-DDC4-4910-8F2B-E66E224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D09D-26AB-4235-B349-0F9C3C6D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E9F3-88EA-4A88-B64D-B89DB40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82E-47AE-48A1-A3D5-E285E3AB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FCCF-CB9B-45A0-A33C-F6E1585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01FA-2242-4379-BCCD-8780F41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F5F6-0DA2-4986-88FE-D70DB867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3D60-F95C-439D-9DB9-26B4CA8A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50D1-EFE4-490D-B8D2-D4797FAD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EB6-97D0-4795-AE97-F55D6A0E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7F1-48DA-4FFB-BB77-2A6F6E0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87E-E577-4F08-BD49-9E6DE21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D05-0B6D-4EE3-B008-0B840F5A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6C9-FF9B-481A-AA70-81B8205F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FA1-011B-4F5F-8626-88449C6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636-3702-4576-B6DC-FD925DD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A9D-2E57-4F61-8148-79BC27C780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C49-A6B1-4F88-AD27-2336189CF8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676520" y="2057400"/>
            <a:ext cx="586728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ушка-зима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за нелепый человек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рался к нам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двадцатый век?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Морковкой нос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руке метла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оится солнца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тепла?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Снеговик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00200" y="2438280"/>
            <a:ext cx="596268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ernard MT Condensed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empus Sans ITC"/>
              </a:rPr>
              <a:t>СНЕЖОК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Снежок порхает, кружится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На улице бело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И превратились лужицы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В холодное стекло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Где летом пели зяблики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Сегодня - посмотри! -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Как розовые яблоки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На ветках снегири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Снежок изрезан лыжами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Как мел, скрипуч и сух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И ловит кошка рыжая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Веселых белых му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eaeaea"/>
                </a:solidFill>
                <a:latin typeface="Tw Cen MT Condensed Extra Bold"/>
              </a:rPr>
              <a:t>А какие месяцы считаются зимними?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"/>
              </a:rPr>
              <a:t>Декабр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94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"/>
              </a:rPr>
              <a:t>Январ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9021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Феврал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"/>
              </a:rPr>
              <a:t>Загадки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за звёздочки сквозные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пальто и на платке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се сквозные, вырезные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возьмёшь - вода в руке?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Снежинки)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белом бархате деревня -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заборы, и деревья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как ветер нападёт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Этот бархат опадёт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Иней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2-04-17T07:06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